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7EC-CC2E-4028-AB1B-B507EE8E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ADED-0D3D-4F08-A42D-C33F5799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208B-84A5-4F14-B7EA-C32BF7CF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FA9-4409-41B8-B368-D80A723E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56B3-F772-43E9-BC76-5EA4A2E6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550-A837-4751-BB87-F4EAAF19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3A9-F16C-45F5-ACBA-5D499FAF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5412-C2AE-4081-B48B-AE347F9E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31A3-6DE7-45A9-B8C4-403C6C90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907-4847-4B1A-9C5F-C9438F93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F45-50C4-4651-A3E5-5474DBE6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6620-828C-49D7-8413-52692EAB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FDAAE-4905-4A2C-8C03-BE08AFF52F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4E011-1DBD-4708-AB7A-5A24AC979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5548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happened to the crew members Columbus left behind when he returned to Sp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Balboa accompli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Magellan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crew accompli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533520" y="609480"/>
            <a:ext cx="80769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explo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erigo Vespucci was a chart maker who decided that this new land was NOT Asia. The new land took on the name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erigo.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t later became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erica.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533520" y="19051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1510, Balboa landed in Panama and walked to the Pacific Ocea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533520" y="8380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1519, Magellan sought to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ircumnavig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 globe. He followed the coast of South America all the way south until he found a way through to the Pacific Oce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happened to Magellan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voyage the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image_Magellan_Elcano_Circumnavigation-en.svg.png"/>
          <p:cNvPicPr/>
          <p:nvPr/>
        </p:nvPicPr>
        <p:blipFill>
          <a:blip r:embed="rId1"/>
          <a:stretch/>
        </p:blipFill>
        <p:spPr>
          <a:xfrm>
            <a:off x="0" y="1108080"/>
            <a:ext cx="9144000" cy="4641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27"/>
          <p:cNvSpPr/>
          <p:nvPr/>
        </p:nvSpPr>
        <p:spPr>
          <a:xfrm>
            <a:off x="310320" y="581976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ella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voyage circumnavigated the glo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mage_Hernando_de_Magallanes_del_museo_Madrid.jpg"/>
          <p:cNvPicPr/>
          <p:nvPr/>
        </p:nvPicPr>
        <p:blipFill>
          <a:blip r:embed="rId1"/>
          <a:stretch/>
        </p:blipFill>
        <p:spPr>
          <a:xfrm>
            <a:off x="3646440" y="0"/>
            <a:ext cx="54975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0" y="480960"/>
            <a:ext cx="3429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ella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expedition circumnavigated the globe. 1519-152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expedition proved the size of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872800" y="2286000"/>
            <a:ext cx="45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umbian Ex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642240" y="1523880"/>
            <a:ext cx="693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ffect do you think the Columbia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on the cultures it touch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228600" y="762120"/>
            <a:ext cx="739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k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kings were probably the first Europeans to reac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ived around 1000 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kings soon abandoned their settlements in Nort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tive Americans had adapted to the harsh conditions over thousands of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image_Viking to new world"/>
          <p:cNvPicPr/>
          <p:nvPr/>
        </p:nvPicPr>
        <p:blipFill>
          <a:blip r:embed="rId1"/>
          <a:stretch/>
        </p:blipFill>
        <p:spPr>
          <a:xfrm>
            <a:off x="304920" y="457200"/>
            <a:ext cx="8607240" cy="5392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964160" y="5942160"/>
            <a:ext cx="48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king voyages to New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685800" y="533520"/>
            <a:ext cx="7931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tugal refuses to fund Columbus. Why? Two reas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685800" y="533520"/>
            <a:ext cx="7931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tugal refuses to fund Columbus. Why? Two reas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g Ferdinand and Queen Isabella of SPAIN funded Columbus…after six years of effort by Columbus to convince the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679320" y="1523880"/>
            <a:ext cx="793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umbus sailed in August, 1492, and landed in October, 1492. The trip took about six weeks. What lie did he tell his sail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685800" y="533520"/>
            <a:ext cx="7931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umbus believed he had reached As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established settlement at Hispaniola, near Cub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sailed home and told of GO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returned to Americ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ith 17 ships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oldi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What did he fi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umbus enslaved Native Americans and forced them to dig for g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olumbus first voyage.jpg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4452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762120" y="51624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us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rst voyage took six w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2:54:29Z</dcterms:created>
  <dc:creator>Thomas Hagerty</dc:creator>
  <dc:description/>
  <dc:language>en-US</dc:language>
  <cp:lastModifiedBy>Thomas Hagerty</cp:lastModifiedBy>
  <cp:lastPrinted>2012-09-12T11:41:13Z</cp:lastPrinted>
  <dcterms:modified xsi:type="dcterms:W3CDTF">2014-09-22T01:42:55Z</dcterms:modified>
  <cp:revision>29</cp:revision>
  <dc:subject/>
  <dc:title>Slide 1</dc:title>
</cp:coreProperties>
</file>